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17.jpeg" ContentType="image/jpeg"/>
  <Override PartName="/ppt/media/image9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601200" cy="73152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66400" y="690120"/>
            <a:ext cx="452916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7422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7422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D4FF6C-A7E7-46C0-AEE0-478558E5B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66760" y="690480"/>
            <a:ext cx="4529160" cy="34513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66760" y="690480"/>
            <a:ext cx="4529160" cy="345132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66760" y="690480"/>
            <a:ext cx="4529160" cy="34513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66760" y="690480"/>
            <a:ext cx="4529160" cy="34513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66760" y="690480"/>
            <a:ext cx="4529160" cy="34513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66760" y="690480"/>
            <a:ext cx="4529160" cy="34513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66760" y="690480"/>
            <a:ext cx="4529160" cy="345132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66760" y="690480"/>
            <a:ext cx="4529160" cy="34513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66760" y="690480"/>
            <a:ext cx="4529160" cy="34513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66760" y="690480"/>
            <a:ext cx="4529160" cy="34513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66760" y="690480"/>
            <a:ext cx="4529160" cy="34513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66760" y="690480"/>
            <a:ext cx="4529160" cy="34513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C4343-20EB-4792-B1DF-03FD28A18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06400" y="483840"/>
            <a:ext cx="8285040" cy="5094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00000" y="1371600"/>
            <a:ext cx="8126640" cy="2428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00000" y="4031640"/>
            <a:ext cx="8126640" cy="2428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B8808-CCB6-4CAF-B36B-93E747E1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483840"/>
            <a:ext cx="8285040" cy="5094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1371600"/>
            <a:ext cx="3965760" cy="2428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4480" y="1371600"/>
            <a:ext cx="3965760" cy="2428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000" y="4031640"/>
            <a:ext cx="3965760" cy="2428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4480" y="4031640"/>
            <a:ext cx="3965760" cy="2428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84A5E-B82C-417E-B6EC-124E73F58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06400" y="483840"/>
            <a:ext cx="8285040" cy="5094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00000" y="1371600"/>
            <a:ext cx="2616480" cy="2428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47520" y="1371600"/>
            <a:ext cx="2616480" cy="2428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95400" y="1371600"/>
            <a:ext cx="2616480" cy="2428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00000" y="4031640"/>
            <a:ext cx="2616480" cy="2428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47520" y="4031640"/>
            <a:ext cx="2616480" cy="2428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95400" y="4031640"/>
            <a:ext cx="2616480" cy="2428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F12A5-3519-4404-909D-4855CCEAD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06400" y="483840"/>
            <a:ext cx="8285040" cy="5094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00000" y="1371600"/>
            <a:ext cx="8126640" cy="50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80B52-A509-4B9A-8A6A-82181D81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483840"/>
            <a:ext cx="8285040" cy="5094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371600"/>
            <a:ext cx="8126640" cy="50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36363-E211-4B2F-B492-52024D86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483840"/>
            <a:ext cx="8285040" cy="5094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0000" y="1371600"/>
            <a:ext cx="3965760" cy="50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480" y="1371600"/>
            <a:ext cx="3965760" cy="50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EAC23-512A-4FC8-96CA-CC4AAF7A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06400" y="483840"/>
            <a:ext cx="8285040" cy="5094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F200B-4F47-4487-A34A-F304749E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806400" y="483840"/>
            <a:ext cx="828504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4D2FF-5D2A-4B1C-B3FF-F7621A33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06400" y="483840"/>
            <a:ext cx="8285040" cy="5094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00000" y="1371600"/>
            <a:ext cx="3965760" cy="2428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480" y="1371600"/>
            <a:ext cx="3965760" cy="50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00000" y="4031640"/>
            <a:ext cx="3965760" cy="2428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00F75-458B-48A1-9D20-4E60BE98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06400" y="483840"/>
            <a:ext cx="8285040" cy="5094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00000" y="1371600"/>
            <a:ext cx="3965760" cy="50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480" y="1371600"/>
            <a:ext cx="3965760" cy="2428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4480" y="4031640"/>
            <a:ext cx="3965760" cy="2428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A1311-4E72-487A-8C33-1BE88BB2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06400" y="483840"/>
            <a:ext cx="8285040" cy="5094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00000" y="1371600"/>
            <a:ext cx="3965760" cy="2428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480" y="1371600"/>
            <a:ext cx="3965760" cy="2428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00000" y="4031640"/>
            <a:ext cx="8126640" cy="2428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DAE67-C787-4187-BA42-3526491D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8270"/>
          <a:stretch/>
        </p:blipFill>
        <p:spPr>
          <a:xfrm>
            <a:off x="6781680" y="6630840"/>
            <a:ext cx="2819520" cy="6699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7545960" y="7134120"/>
            <a:ext cx="198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Narrow"/>
              </a:rPr>
              <a:t>Copyright 2006 Northrop Grumman Corporation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rcRect l="46275" t="0" r="8950" b="0"/>
          <a:stretch/>
        </p:blipFill>
        <p:spPr>
          <a:xfrm>
            <a:off x="0" y="0"/>
            <a:ext cx="762120" cy="73152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1009800"/>
            <a:ext cx="9601200" cy="0"/>
          </a:xfrm>
          <a:prstGeom prst="line">
            <a:avLst/>
          </a:prstGeom>
          <a:ln w="38160">
            <a:solidFill>
              <a:srgbClr val="ed1a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06400" y="483840"/>
            <a:ext cx="8285040" cy="5094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00000" y="1371600"/>
            <a:ext cx="8126640" cy="50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293760" indent="-29376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39528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23508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93880" indent="-24300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74760" indent="-24120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74760" indent="-24120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74760" indent="-24120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-360" y="6967080"/>
            <a:ext cx="762120" cy="3812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08171-C0EA-4D4A-A6C9-1AF83C56966E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9724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1064880" y="7130520"/>
            <a:ext cx="213372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EBA6-BE10-4F81-AE92-D432D4FDC8E9}" type="datetime">
              <a:rPr b="0" lang="en-US" sz="800" spc="-1" strike="noStrike">
                <a:solidFill>
                  <a:srgbClr val="000000"/>
                </a:solidFill>
                <a:latin typeface="Arial Narrow"/>
              </a:rPr>
              <a:t>07/29/26</a:t>
            </a:fld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fld id="{50AE1E67-C96C-45DE-A159-D43DA64AD769}" type="datetime10">
              <a:rPr b="0" lang="en-US" sz="800" spc="-1" strike="noStrike">
                <a:solidFill>
                  <a:srgbClr val="000000"/>
                </a:solidFill>
                <a:latin typeface="Arial Narrow"/>
              </a:rPr>
              <a:t>22:37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ftr" idx="3"/>
          </p:nvPr>
        </p:nvSpPr>
        <p:spPr>
          <a:xfrm>
            <a:off x="2289240" y="7130880"/>
            <a:ext cx="410040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ed1a2d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d1a2d"/>
                </a:solidFill>
                <a:latin typeface="Arial Narrow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law-intro.wav" TargetMode="External"/><Relationship Id="rId2" Type="http://schemas.microsoft.com/office/2007/relationships/media" Target="file:///tmp/home/.config/libreoffice/4/user/gallery/law-intro.wav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wmf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751" t="0" r="751" b="0"/>
          <a:stretch/>
        </p:blipFill>
        <p:spPr>
          <a:xfrm>
            <a:off x="-3240" y="0"/>
            <a:ext cx="9607680" cy="7315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81280" y="1778040"/>
            <a:ext cx="5791320" cy="20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Tahoma"/>
              </a:rPr>
              <a:t>Crew Resource Management to the Rescu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05040" y="5676840"/>
            <a:ext cx="593892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spcAft>
                <a:spcPts val="88"/>
              </a:spcAft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9 May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8"/>
              </a:spcAft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Troy Johnson                                   Lisa DeR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6"/>
              </a:spcAft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Flight Test Operations Manager                  Chief Air Vehicle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5638680"/>
            <a:ext cx="6019920" cy="0"/>
          </a:xfrm>
          <a:prstGeom prst="line">
            <a:avLst/>
          </a:prstGeom>
          <a:ln w="31680">
            <a:solidFill>
              <a:srgbClr val="ed1a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8C420-05A5-480F-BFF1-47033B1AE566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DB24FA5-3A3F-450E-B46F-D9FF5B7C4C67}" type="datetime8">
              <a:rPr lang="en-US"/>
              <a:t>07/29/26 22:37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06400" y="485640"/>
            <a:ext cx="8285040" cy="507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How Does CRM Apply to Our Situation?</a:t>
            </a: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1371600"/>
            <a:ext cx="8126640" cy="50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293760" indent="-29376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fety Summit revealed systemic case of human error in test exec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arching justification for CRM is error management”-- avoiding error and mitigating the consequences of error when they occu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ned vs Unmanned risks/limitations and error avoid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39528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ident rate compa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ying Test focused CRM likely to bear some fruit for our situ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39528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nd Test  &amp;  Mission Rehears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D7BF8-33EF-45EA-BF76-B7A879C06E9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238030D-17C6-4C27-9143-7C87982836BF}" type="datetime8">
              <a:rPr lang="en-US"/>
              <a:t>07/29/26 22:37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06400" y="485640"/>
            <a:ext cx="8285040" cy="507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CRM at the Management Level</a:t>
            </a: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00000" y="1371600"/>
            <a:ext cx="8126640" cy="50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293760" indent="-29376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ing the foundation for a CRM culture at the Management Level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39528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ince Management that CRM is a useful tool for managing error &amp;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39528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down the stovepipes thru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235080">
              <a:lnSpc>
                <a:spcPct val="90000"/>
              </a:lnSpc>
              <a:spcAft>
                <a:spcPts val="675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u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39528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Best Practices and Standardize procedures across th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235080">
              <a:lnSpc>
                <a:spcPct val="90000"/>
              </a:lnSpc>
              <a:spcAft>
                <a:spcPts val="675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 Development Infrastructure Improvement Initiative (PDI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235080">
              <a:lnSpc>
                <a:spcPct val="90000"/>
              </a:lnSpc>
              <a:spcAft>
                <a:spcPts val="675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u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39528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management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235080">
              <a:lnSpc>
                <a:spcPct val="90000"/>
              </a:lnSpc>
              <a:spcAft>
                <a:spcPts val="675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u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0">
              <a:lnSpc>
                <a:spcPct val="90000"/>
              </a:lnSpc>
              <a:spcAft>
                <a:spcPts val="675"/>
              </a:spcAft>
              <a:buNone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49103-C2BB-40B0-937F-FD63C9FF19A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583A315-4511-481A-9F3A-1B9FDC9E1D01}" type="datetime8">
              <a:rPr lang="en-US"/>
              <a:t>07/29/26 22:37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06400" y="485640"/>
            <a:ext cx="8285040" cy="507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CRM at the Test Team</a:t>
            </a: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00000" y="1371600"/>
            <a:ext cx="8126640" cy="50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293760" indent="-293760">
              <a:lnSpc>
                <a:spcPct val="90000"/>
              </a:lnSpc>
              <a:spcAft>
                <a:spcPts val="75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395280">
              <a:lnSpc>
                <a:spcPct val="90000"/>
              </a:lnSpc>
              <a:spcAft>
                <a:spcPts val="75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eam is our cr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235080">
              <a:lnSpc>
                <a:spcPct val="90000"/>
              </a:lnSpc>
              <a:spcAft>
                <a:spcPts val="6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 Director/Test Conductors/Operations/Engineers/Ground Cr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395280">
              <a:lnSpc>
                <a:spcPct val="90000"/>
              </a:lnSpc>
              <a:spcAft>
                <a:spcPts val="75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s with the proposal where test team staffing requirements are first identified and necessary test disciplines are 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90000"/>
              </a:lnSpc>
              <a:spcAft>
                <a:spcPts val="75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W RESOUR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395280">
              <a:lnSpc>
                <a:spcPct val="90000"/>
              </a:lnSpc>
              <a:spcAft>
                <a:spcPts val="75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e use and train our test crew resources are identified in procedures and in the test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235080">
              <a:lnSpc>
                <a:spcPct val="90000"/>
              </a:lnSpc>
              <a:spcAft>
                <a:spcPts val="675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 Rehear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235080">
              <a:lnSpc>
                <a:spcPct val="90000"/>
              </a:lnSpc>
              <a:spcAft>
                <a:spcPts val="675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90000"/>
              </a:lnSpc>
              <a:spcAft>
                <a:spcPts val="75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W RESOURCE 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395280">
              <a:lnSpc>
                <a:spcPct val="90000"/>
              </a:lnSpc>
              <a:spcAft>
                <a:spcPts val="75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M or Error Management  driven home in the FRR and MR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0">
              <a:lnSpc>
                <a:spcPct val="90000"/>
              </a:lnSpc>
              <a:spcAft>
                <a:spcPts val="675"/>
              </a:spcAft>
              <a:buNone/>
              <a:tabLst>
                <a:tab algn="l" pos="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3760" indent="0">
              <a:lnSpc>
                <a:spcPct val="90000"/>
              </a:lnSpc>
              <a:spcAft>
                <a:spcPts val="675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CE0FC-B2DE-479B-A13B-8B905EBFFC3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2E4D39E-631C-4F84-A0FC-9A4DE3CEED9D}" type="datetime8">
              <a:rPr lang="en-US"/>
              <a:t>07/29/26 22:37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06400" y="485640"/>
            <a:ext cx="8285040" cy="507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Applying CRM in Hindsight</a:t>
            </a: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00000" y="1371600"/>
            <a:ext cx="8126640" cy="50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293760" indent="-293760">
              <a:lnSpc>
                <a:spcPct val="90000"/>
              </a:lnSpc>
              <a:spcAft>
                <a:spcPts val="1049"/>
              </a:spcAft>
              <a:buClr>
                <a:srgbClr val="006699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 Mort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39528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 Roles and Responsibilities (Internal and Exter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39528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er “What-if” Scenarios and “Go – No/Go”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39528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herence to Procedures (existing and develop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39528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ower Current/Qualified TD/TC with overall Responsibility/Accountability/Authority for the flight test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39528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one is responsible for enforcing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39528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ower Test Team members to say 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0">
              <a:lnSpc>
                <a:spcPct val="90000"/>
              </a:lnSpc>
              <a:spcAft>
                <a:spcPts val="901"/>
              </a:spcAft>
              <a:buNone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0879F-C0FE-47C5-B217-B710F332DCC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055585B-6EFD-44EF-A51D-F07A1E6BFFE5}" type="datetime8">
              <a:rPr lang="en-US"/>
              <a:t>07/29/26 22:37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30656" r="0" b="0"/>
          <a:stretch/>
        </p:blipFill>
        <p:spPr>
          <a:xfrm>
            <a:off x="1209600" y="4676760"/>
            <a:ext cx="5700960" cy="2365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00000" y="1125000"/>
            <a:ext cx="8126640" cy="5092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293760" indent="-29376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in the test team in the fundamentals of the CRM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ying CRM in the control ro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395280">
              <a:lnSpc>
                <a:spcPct val="90000"/>
              </a:lnSpc>
              <a:spcAft>
                <a:spcPts val="675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ddressed early in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395280">
              <a:lnSpc>
                <a:spcPct val="90000"/>
              </a:lnSpc>
              <a:spcAft>
                <a:spcPts val="675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Room Configuration Crucial to leveraging C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235080">
              <a:lnSpc>
                <a:spcPct val="90000"/>
              </a:lnSpc>
              <a:spcAft>
                <a:spcPts val="6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235080">
              <a:lnSpc>
                <a:spcPct val="90000"/>
              </a:lnSpc>
              <a:spcAft>
                <a:spcPts val="6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es and Responsib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and role of human factors involvement in development of operator control s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90000"/>
              </a:lnSpc>
              <a:spcAft>
                <a:spcPts val="75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rcise CRM principles by implementing Test Team EP of the day in mission brief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806400" y="485640"/>
            <a:ext cx="8285040" cy="507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Applying CRM in the Future</a:t>
            </a: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38E21-E370-45F8-BAB9-5560406B3C2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EB07EB4-3B29-47F8-BCEC-180ADAD8712B}" type="datetime8">
              <a:rPr lang="en-US"/>
              <a:t>07/29/26 22:37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06400" y="485640"/>
            <a:ext cx="8285040" cy="507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Conclusion &amp; Recommendations</a:t>
            </a: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00000" y="1371600"/>
            <a:ext cx="8126640" cy="50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293760" indent="-29376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 as an error management tool likely to bear some fruit for our test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90000"/>
              </a:lnSpc>
              <a:spcAft>
                <a:spcPts val="90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mmend test team CRM training and periodic rehearsal exerci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847960" y="3355920"/>
            <a:ext cx="4083120" cy="34131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875400" y="2865600"/>
            <a:ext cx="24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Got Safe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946A3-0B21-48F7-B6E4-69CF9328AD8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3CD198F-34A3-421A-92D0-C006F75544C1}" type="datetime8">
              <a:rPr lang="en-US"/>
              <a:t>07/29/26 22:3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06400" y="485640"/>
            <a:ext cx="8285040" cy="507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Gratuitous Video</a:t>
            </a: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3286080" y="2546280"/>
            <a:ext cx="3352680" cy="27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801DF-8979-48F6-8967-3D37675EFE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DD0116D-FB77-4877-A5A5-1C467E0D5179}" type="datetime8">
              <a:rPr lang="en-US"/>
              <a:t>07/29/26 22:3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8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6400" y="430920"/>
            <a:ext cx="8285040" cy="5626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Why Are We Here Today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371600"/>
            <a:ext cx="8126640" cy="50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293760" indent="-29376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of incidents led us to stand down and take a serious look at our test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w this as an opportunity to share our experience and lessons learned with yo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if CRM could be applied to our situ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A9865-ED1C-4896-9F1E-FC7F622162F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8E0AFD7-825B-486E-A777-AF9DED606933}" type="datetime8">
              <a:rPr lang="en-US"/>
              <a:t>07/29/26 22: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06400" y="485640"/>
            <a:ext cx="8285040" cy="507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The Incidents</a:t>
            </a: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39840" y="1919160"/>
            <a:ext cx="5902560" cy="4426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420040" y="60595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BB7C8-5232-4B17-9322-7243CD09870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34FE481-3ACC-433E-B13D-26BB16E7614C}" type="datetime8">
              <a:rPr lang="en-US"/>
              <a:t>07/29/26 22:37</a:t>
            </a:fld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56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6400" y="485640"/>
            <a:ext cx="8285040" cy="507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Understanding the Root Causes</a:t>
            </a: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00000" y="1371600"/>
            <a:ext cx="8126640" cy="50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293760" indent="-293760">
              <a:lnSpc>
                <a:spcPct val="90000"/>
              </a:lnSpc>
              <a:spcAft>
                <a:spcPts val="75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porate mergers and buyouts posed challenges to the test 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90000"/>
              </a:lnSpc>
              <a:spcAft>
                <a:spcPts val="75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&amp;E organization very centralized but T&amp;E activities are very independent, wide spread, and decentralized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90000"/>
              </a:lnSpc>
              <a:spcAft>
                <a:spcPts val="75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itioning from primarily manned to unmanned op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90000"/>
              </a:lnSpc>
              <a:spcAft>
                <a:spcPts val="751"/>
              </a:spcAft>
              <a:buClr>
                <a:srgbClr val="006699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ed i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3952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awareness of test procedu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3952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onsistent and undocumented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3952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rriers to T&amp;E invol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3952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familiar Flight Test Team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3952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adequate training and cer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3952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onsistent or incongruous Test IPT reporting chains – some not in T&amp;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76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B11BA-BD32-4D82-AA2D-A1830D5D940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BE41B41-9C7B-45D4-A8ED-A7B070FF557D}" type="datetime8">
              <a:rPr lang="en-US"/>
              <a:t>07/29/26 22:37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1494720" y="2131920"/>
            <a:ext cx="7217640" cy="4863960"/>
            <a:chOff x="1494720" y="2131920"/>
            <a:chExt cx="7217640" cy="4863960"/>
          </a:xfrm>
        </p:grpSpPr>
        <p:sp>
          <p:nvSpPr>
            <p:cNvPr id="67" name=""/>
            <p:cNvSpPr/>
            <p:nvPr/>
          </p:nvSpPr>
          <p:spPr>
            <a:xfrm>
              <a:off x="7178760" y="2268360"/>
              <a:ext cx="549360" cy="2759400"/>
            </a:xfrm>
            <a:prstGeom prst="can">
              <a:avLst>
                <a:gd name="adj" fmla="val 811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483080" y="2206440"/>
              <a:ext cx="549360" cy="2759400"/>
            </a:xfrm>
            <a:prstGeom prst="can">
              <a:avLst>
                <a:gd name="adj" fmla="val 811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630440" y="2131920"/>
              <a:ext cx="549360" cy="2759040"/>
            </a:xfrm>
            <a:prstGeom prst="can">
              <a:avLst>
                <a:gd name="adj" fmla="val 811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51040" y="2379600"/>
              <a:ext cx="2444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ORTHRO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602240" y="2424240"/>
              <a:ext cx="25704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RUMM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02240" y="2728800"/>
              <a:ext cx="40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94720" y="4981680"/>
              <a:ext cx="94104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-5E/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YF-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SS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-4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-15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JS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7480" y="5014800"/>
              <a:ext cx="1171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-5E/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-2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-2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A-6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JSTA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/A-18E/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97720" y="5091120"/>
              <a:ext cx="21146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QM-34/7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Haw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re Sc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AV Special Pro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U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 rot="5400000">
            <a:off x="4417200" y="-1153440"/>
            <a:ext cx="519120" cy="6143760"/>
          </a:xfrm>
          <a:custGeom>
            <a:avLst/>
            <a:gdLst>
              <a:gd name="textAreaLeft" fmla="*/ 331560 w 519120"/>
              <a:gd name="textAreaRight" fmla="*/ 519480 w 519120"/>
              <a:gd name="textAreaTop" fmla="*/ 160200 h 6143760"/>
              <a:gd name="textAreaBottom" fmla="*/ 5983560 h 614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49"/>
                </a:lnTo>
                <a:cubicBezTo>
                  <a:pt x="10800" y="9849"/>
                  <a:pt x="5400" y="10749"/>
                  <a:pt x="0" y="10749"/>
                </a:cubicBezTo>
                <a:cubicBezTo>
                  <a:pt x="5400" y="10749"/>
                  <a:pt x="10800" y="11649"/>
                  <a:pt x="10800" y="1254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60840" y="1060560"/>
            <a:ext cx="579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A Growing Organization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Managing Different Cultures &amp; Different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06400" y="485640"/>
            <a:ext cx="8285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Overcoming Cultural Differ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DE15D-CCD3-465E-80B9-3C5EB5599B7E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18138A0-F878-408F-AACB-A8E89CE28540}" type="datetime8">
              <a:rPr lang="en-US"/>
              <a:t>07/29/26 22:37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422600" y="5208480"/>
            <a:ext cx="1209960" cy="1154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524640" y="1695600"/>
            <a:ext cx="2330280" cy="904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096920" y="3403440"/>
            <a:ext cx="1949400" cy="1092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504200" y="4100400"/>
            <a:ext cx="1731960" cy="1190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2408400" y="1754280"/>
            <a:ext cx="5467320" cy="4703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1960560" y="1300320"/>
            <a:ext cx="1374840" cy="14414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06400" y="485640"/>
            <a:ext cx="8285040" cy="507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T&amp;E Tentacles Spread Far and Wide</a:t>
            </a: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 rot="20033400">
            <a:off x="5510520" y="1809360"/>
            <a:ext cx="18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St. Augus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9365600">
            <a:off x="5773680" y="5728680"/>
            <a:ext cx="12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Palmd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2403000">
            <a:off x="5495760" y="426384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d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965000">
            <a:off x="4335120" y="642456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Pax 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20192400">
            <a:off x="881280" y="214596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Sierra V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613800">
            <a:off x="2680560" y="375768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Ram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21239400">
            <a:off x="1328400" y="5176440"/>
            <a:ext cx="170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White S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9638600">
            <a:off x="3899160" y="13060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Yum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2350200">
            <a:off x="7237440" y="321552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Moj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2000160" y="5776920"/>
            <a:ext cx="1514520" cy="290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 rot="20511000">
            <a:off x="6080040" y="5849640"/>
            <a:ext cx="3251160" cy="48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0A882-73C4-4C91-BE4A-FDCB4D009A1C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AEBBB27-D031-45E8-BACC-25E98E9B3377}" type="datetime8">
              <a:rPr lang="en-US"/>
              <a:t>07/29/26 22:3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06400" y="430920"/>
            <a:ext cx="8285040" cy="5626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Flight Test Summit Actions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1176480"/>
            <a:ext cx="8774280" cy="5433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457200" indent="-45720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Arial"/>
              <a:buAutoNum type="arabicPeriod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riers to T&amp;E Involvement on all Programs need to be eliminated from the Top (VP on down) if we are expected to be respons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Arial"/>
              <a:buAutoNum type="arabicPeriod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loy a “Deployed Operations” proces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Arial"/>
              <a:buAutoNum type="arabicPeriod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Flight Test independence– both for advocacy and suppor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Arial"/>
              <a:buAutoNum type="arabicPeriod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tain ongoing independent review on all program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Arial"/>
              <a:buAutoNum type="arabicPeriod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a Chief Air Vehicle Operator for the Western Region T&amp;E Organ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Arial"/>
              <a:buAutoNum type="arabicPeriod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sure all System Test IPT Leaders know and understand the new System Safety Organ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27AF2-7BE4-467E-B54F-30C9305C04D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2CEF3B8-2435-4E52-955D-64278F8739D4}" type="datetime8">
              <a:rPr lang="en-US"/>
              <a:t>07/29/26 22:37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06400" y="430920"/>
            <a:ext cx="8285040" cy="5626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Flight Test Summit Actions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560" y="1176480"/>
            <a:ext cx="8774280" cy="5765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609480" indent="-60948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Arial"/>
              <a:buAutoNum type="arabicPeriod" startAt="7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standardized procedure for Emergency / Mishap Respon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Arial"/>
              <a:buAutoNum type="arabicPeriod" startAt="7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to have a manager at all Flight Test Ev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35000" y="2390760"/>
            <a:ext cx="5834160" cy="437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9BFD8-D37B-49E8-BC83-38FEA21B6EA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BD91DF3-370A-4E9E-B776-112492F34786}" type="datetime8">
              <a:rPr lang="en-US"/>
              <a:t>07/29/26 22:3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14:32:17Z</dcterms:created>
  <dc:creator>johnstr2</dc:creator>
  <dc:description/>
  <dc:language>en-US</dc:language>
  <cp:lastModifiedBy>thomas.roberts</cp:lastModifiedBy>
  <dcterms:modified xsi:type="dcterms:W3CDTF">2007-05-15T14:32:18Z</dcterms:modified>
  <cp:revision>36</cp:revision>
  <dc:subject/>
  <dc:title>Slide 0</dc:title>
</cp:coreProperties>
</file>